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9FC6-9FF7-4DEC-8CD4-0DD5A0679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796F-7E4F-43F7-AC08-89B223BA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6AC-4C3C-494C-9AB7-FD214DCD2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671-FB99-49F3-A30C-B7C44730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63F8-15FE-49A3-B5B6-149D74B8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BB14-A4AC-4280-AE73-81562390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AD6B-B83B-4561-B355-3223A32A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778-0875-4AA7-8E73-442FC1A5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2DC-AA29-4236-8132-F0B4B49A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5DD-236B-4920-BC10-FCCD194D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D61-7847-46EB-8DE9-22D76ADF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FDF-EA5C-46D5-8FDF-20BB41A1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53C6-858B-4027-947C-35C0F486A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Quadrant Special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radians, tell what the degree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degrees, tell what the radian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158920" y="2075040"/>
          <a:ext cx="24177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8920" y="2075040"/>
                    <a:ext cx="24177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906560" y="2075040"/>
          <a:ext cx="2922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2075040"/>
                    <a:ext cx="2922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06560" y="2075040"/>
          <a:ext cx="2922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2075040"/>
                    <a:ext cx="2922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1-22T20:35:27Z</dcterms:modified>
  <cp:revision>4</cp:revision>
  <dc:subject/>
  <dc:title>Slide 1</dc:title>
</cp:coreProperties>
</file>